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279-C886-465D-AF8D-B43B04DF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E4E-F98D-4912-9008-70F521B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998-8980-4918-A960-B8E74471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645-B117-46AD-B307-A5B89F90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093-7B4D-4B0C-83AC-898EBDA6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B07-E341-4F0D-BCA5-6DBAF898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12C-3B6E-4D48-BCCE-34DC80E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38D-A8E6-44A9-9AAB-27D646D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82E-2F61-41B9-BA53-17BAA5FA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DB7-A246-4051-8F55-D61A760D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2F7-40EA-4431-A229-C3ED215B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FAA-9195-4989-9ABF-3813A91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79AA-7CB7-42E1-9499-8BB5D21C5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04920" y="45720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1.Japan Capi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962520" y="2514600"/>
            <a:ext cx="419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4.Northern Is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990720" y="28954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2.Sea of Jap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038480" y="3886200"/>
            <a:ext cx="32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5. Three Gorges D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962520" y="22096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3.Forbidden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41008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6.Dunhuang Oa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80880" y="4876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7. Chinese Civil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5410080" y="15228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8.Ever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724280" y="1066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9. South Ko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5181480" y="19051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10.North Ko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52280" y="35053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Beij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0" y="28195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Himal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457200" y="5410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Pyongya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304920" y="4572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Tok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5562720" y="281952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East S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752480" y="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Yangzi 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1752480" y="914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Yellow 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403848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Seo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586728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Hokka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2971800" y="19051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Taklimakan 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rackmodif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7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5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95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075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4"/>
                                      </p:cond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274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9475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26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6175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885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275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6725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625"/>
                            </p:stCondLst>
                            <p:childTnLst>
                              <p:par>
                                <p:cTn id="65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6625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525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4275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4"/>
                                      </p:cond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7875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1175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4474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7775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1775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45720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1.Japan Capi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62520" y="2514600"/>
            <a:ext cx="419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4.Northern Is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90720" y="28954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2.Sea of Jap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038480" y="3886200"/>
            <a:ext cx="32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5. Three Gorges D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962520" y="22096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3.Forbidden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008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6.Dunhuang Oa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80880" y="4876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7. Chinese Civil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410080" y="15228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8.Ever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724280" y="1066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9. South Ko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181480" y="19051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10.North Ko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52280" y="35053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Beij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0" y="28195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Himal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57200" y="5410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Pyongya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04920" y="4572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Tok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5562720" y="281952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East S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752480" y="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Yangzi 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52480" y="914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Yellow 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03848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Seo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86728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Hokka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2971800" y="19051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Taklimakan 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5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95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75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6"/>
                                      </p:cond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275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1"/>
                                      </p:cond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475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96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3175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6"/>
                                      </p:cond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85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75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3725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7625"/>
                            </p:stCondLst>
                            <p:childTnLst>
                              <p:par>
                                <p:cTn id="177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3625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evt="end">
                                        <p:tn val="183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7525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88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1275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4875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8175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1475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4775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8775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457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1. Mt. Fu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62520" y="25146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4.Taiw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05120" y="3048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2.Great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038480" y="38862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5. Cambo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33920" y="554688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3. Demilitarized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410080" y="4952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6. South China S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80880" y="48769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7. Ho Chi Min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410080" y="15228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8. Han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724280" y="106668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9. Mekong Del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38080" y="1447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10. Mongo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52280" y="35053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Angkor Civ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28195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Vietnam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57200" y="54100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Luzon S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04920" y="4572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Parallel 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410080" y="8380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Ulan B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1752480" y="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hina For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1752480" y="9144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Near Saigon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038480" y="47242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Form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8672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Volc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1600200" y="1905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Rice/ Plain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7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675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7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evt="end">
                                        <p:tn val="243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925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525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evt="end">
                                        <p:tn val="253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275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4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3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45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evt="end">
                                        <p:tn val="268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3975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3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795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1775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375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89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1375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5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575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0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75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3675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evt="end">
                                        <p:tn val="313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6975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evt="end">
                                        <p:tn val="319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575"/>
                            </p:stCondLst>
                            <p:childTnLst>
                              <p:par>
                                <p:cTn id="32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4175"/>
                            </p:stCondLst>
                            <p:childTnLst>
                              <p:par>
                                <p:cTn id="329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9175"/>
                            </p:stCondLst>
                            <p:childTnLst>
                              <p:par>
                                <p:cTn id="337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evt="end">
                                        <p:tn val="337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04920" y="457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1. Mt. Fu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62520" y="2514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4.Tai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905120" y="3048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2.Great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038480" y="3886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5. Cambo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114800" y="56674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3. Demilitarized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410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6. South China S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0880" y="48769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7. Ho Chi Min 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410080" y="1522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8. Hano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72428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9. Mekong De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838080" y="1447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10. Mongo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52280" y="35053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Angkor Civi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Vietnam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57200" y="54100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Luzon S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04920" y="4572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Parallel 5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5410080" y="8380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Ulan B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75248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China Fort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752480" y="914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Near Saigon R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038480" y="47242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Formo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586728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Volc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1600200" y="1905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Rice/ Plain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evt="end">
                                        <p:tn val="345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75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925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evt="end">
                                        <p:tn val="360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2525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evt="end">
                                        <p:tn val="365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275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70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4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145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3" dur="1" fill="hold">
                                    <p:stCondLst>
                                      <p:cond evt="end">
                                        <p:tn val="380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3975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5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795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1775"/>
                            </p:stCondLst>
                            <p:childTnLst>
                              <p:par>
                                <p:cTn id="395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375"/>
                            </p:stCondLst>
                            <p:childTnLst>
                              <p:par>
                                <p:cTn id="401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1375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7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5575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75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3675"/>
                            </p:stCondLst>
                            <p:childTnLst>
                              <p:par>
                                <p:cTn id="425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5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6975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1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575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4175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9175"/>
                            </p:stCondLst>
                            <p:childTnLst>
                              <p:par>
                                <p:cTn id="449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5"/>
          <p:cNvSpPr/>
          <p:nvPr/>
        </p:nvSpPr>
        <p:spPr>
          <a:xfrm>
            <a:off x="701028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248160" cy="5502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2:32:45Z</dcterms:created>
  <dc:creator>Dave Hallowell</dc:creator>
  <dc:description/>
  <dc:language>en-US</dc:language>
  <cp:lastModifiedBy>Johanna</cp:lastModifiedBy>
  <dcterms:modified xsi:type="dcterms:W3CDTF">2010-12-14T22:35:53Z</dcterms:modified>
  <cp:revision>8</cp:revision>
  <dc:subject/>
  <dc:title>PowerPoint Presentation</dc:title>
</cp:coreProperties>
</file>